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404800" cy="36576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DC9-BD0F-4CA0-850D-4480A055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3456648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19160" y="21143160"/>
            <a:ext cx="3456648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B1F-E741-49C5-B9BA-D254E7F6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631160" y="853452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9160" y="2114316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631160" y="2114316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5B0-94D8-43F0-A90E-FC78A337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1113012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06200" y="8534520"/>
            <a:ext cx="1113012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93240" y="8534520"/>
            <a:ext cx="1113012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19160" y="21143160"/>
            <a:ext cx="1113012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606200" y="21143160"/>
            <a:ext cx="1113012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93240" y="21143160"/>
            <a:ext cx="1113012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817-D962-4A82-87A5-40A08AE2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19160" y="8534520"/>
            <a:ext cx="34566480" cy="241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D81-E33A-4DAD-AF9A-EF89FB71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34566480" cy="241394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877-53D2-452A-96A7-09A82F29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16868160" cy="241394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631160" y="8534520"/>
            <a:ext cx="16868160" cy="241394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376-1F9E-4B1D-B808-207B8ED8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2E9-1C1E-43C3-B6BB-4761102A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19160" y="1465200"/>
            <a:ext cx="34566480" cy="28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E91-FE44-49EC-A914-EAFD58F1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631160" y="8534520"/>
            <a:ext cx="16868160" cy="241394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19160" y="2114316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6CC-74C8-46FA-85F9-D11DA2D6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16868160" cy="241394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631160" y="853452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631160" y="2114316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ECD-F872-4938-BFF1-63C3B450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631160" y="853452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19160" y="21143160"/>
            <a:ext cx="3456648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1C0-1BB0-468E-818B-2DF861D8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19160" y="8534520"/>
            <a:ext cx="34566480" cy="241394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4480" indent="-16444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72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20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19160" y="33308640"/>
            <a:ext cx="8963280" cy="25398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120560" y="33308640"/>
            <a:ext cx="12163680" cy="25398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522360" y="33308640"/>
            <a:ext cx="8963280" cy="25398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389480"/>
                <a:tab algn="l" pos="8778960"/>
              </a:tabLst>
            </a:pPr>
            <a:fld id="{085B6F31-2EE8-46C4-9027-C3532C427AC9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38393640" cy="3860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You may delete all template items.  Do not use this color scheme.  It is for demo only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Your name he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Your institution name he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35458560"/>
            <a:ext cx="38393640" cy="1117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1066680" y="4368960"/>
            <a:ext cx="1759932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19735920" y="4368960"/>
            <a:ext cx="1759896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066680" y="15011280"/>
            <a:ext cx="1759932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19735920" y="26212680"/>
            <a:ext cx="1759896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19735920" y="15024240"/>
            <a:ext cx="17598960" cy="915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1066680" y="22453560"/>
            <a:ext cx="1759932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9"/>
          <p:cNvSpPr/>
          <p:nvPr/>
        </p:nvSpPr>
        <p:spPr>
          <a:xfrm>
            <a:off x="1422360" y="5689440"/>
            <a:ext cx="16535520" cy="96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sert your own text her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1422360" y="16332120"/>
            <a:ext cx="16713360" cy="79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sert your own text here. You can change your font size to fit your own dat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1600200" y="23774400"/>
            <a:ext cx="16179840" cy="96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sert your text he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20091240" y="5587920"/>
            <a:ext cx="1689120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Your text goes he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20166120" y="16346520"/>
            <a:ext cx="16713000" cy="11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Your text goes he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19913760" y="27533520"/>
            <a:ext cx="17246520" cy="39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Your references go he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0:30:49Z</dcterms:created>
  <dc:creator>Graphicsland/MakeSigns.com</dc:creator>
  <dc:description>This is a free template from MakeSigns.com to help you create the perfect scientific poster.</dc:description>
  <cp:keywords>scientific research template custom poster presentation symposium printing PowerPoint create design example sample download</cp:keywords>
  <dc:language>en-US</dc:language>
  <cp:lastModifiedBy>Adam Kohm</cp:lastModifiedBy>
  <dcterms:modified xsi:type="dcterms:W3CDTF">2013-05-14T21:41:12Z</dcterms:modified>
  <cp:revision>19</cp:revision>
  <dc:subject>Template For Scientific Poster Presentation</dc:subject>
  <dc:title>PowerPoint template for a scientific poster</dc:title>
</cp:coreProperties>
</file>